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A29-5FF3-4231-9C04-47666F6D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077-6A47-43FB-A06F-C0F0863F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4CF-F1D2-4786-ABF6-7362D409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824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68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824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68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243-B496-4AEE-A2CA-FC26092C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0398-A4EB-4C41-AFA2-758338D9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636E-FCA7-470C-ACB2-59D2E609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B95A-C120-4A31-AB79-1D5B4D52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6A0E-EE73-4D35-82AC-4A94B857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517-463D-448C-A6C4-7E682B4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B7A6-8778-4453-9C3C-D45B8311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4D27-BBCA-4957-825F-BEF4B99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878-670C-4B55-8015-FCE73BE4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000-4637-4E2E-971F-B0D6161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856B-4114-4CD1-98F7-2AD35C3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09E-4850-4DBE-9C9A-86E354A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FB40-9E84-49EE-9B62-288B1BCF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3071-4D8E-4197-89F8-8CAE721C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967-F7BF-4888-B78F-10B1306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8E6-C685-483E-9A23-D61102E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67C-7231-4C88-B557-BFB41E9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A0F-10F8-408B-8E03-BA2BBF4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74D-5313-469C-A474-175D887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A8C-4C3B-4A3D-B8BD-C91B35E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49E-E0AB-42E1-BFED-3BBC737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7E6A-C671-4C77-A563-F6EAC055D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32E7-E053-47D0-8B7A-1125DCE2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Franklin Gothic Demi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Franklin Gothic Demi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/index.php?title=IDEF1X&amp;action=edit&amp;redlink=1" TargetMode="External"/><Relationship Id="rId4" Type="http://schemas.openxmlformats.org/officeDocument/2006/relationships/hyperlink" Target="http://ru.wikipedia.org/w/index.php?title=IDEF2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rm.nstu.ru/files/256_informacionnaia%20sistem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hgerman.narod.ru/download/Zdanie_muzeja_m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diplompgs.narod.ru/6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Times New Roman"/>
              </a:rPr>
              <a:t>Введение в моделирование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ходы к моделирова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73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оритм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773360"/>
            <a:ext cx="396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ектно-ориентирован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960" y="2798640"/>
            <a:ext cx="3673800" cy="17514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ый подход к созданию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троительный блок – процедура или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781360"/>
            <a:ext cx="3673440" cy="173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современный подход к разработке программ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троительный блок – объект или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9640" y="645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E65-8385-41FD-972E-8D5BC7336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ъектно-ориентированное программиров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916280"/>
            <a:ext cx="785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совокупность принципов, технологий, а также инструментальных средств для создания программных систем на основе архитектуры взаимодействия о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методология программирования, основанна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и программы в виде совокупности объе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ждый из которых является экземпляром определ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ласса, а классы образуют иерархию наследования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801280" y="64911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6AA-0267-4D27-B575-D6E04C164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ъек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кружающий мир состоит из объектов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),  пребывающих в состоянии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e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), которое определяется текущими значениями атрибутов объ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349360"/>
            <a:ext cx="3598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объект облад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дентичност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м свойством, с помощью которого мы отличаем один объект от другого (уникальнос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ое определяется текущими значениями атрибутов объ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i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ое определяет действия объекта или действия над объек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75D-2FFF-426E-8BDD-A4457B537B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сновные принципы  ОО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080" y="1255680"/>
            <a:ext cx="554508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бстра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стика сущности, которая отличает ее от других сущностей. Абстракция определяет границу представления соответствующего элемента модели и применяется для определения класса и объ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аслед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ринцип, в соответствии с которым знание о наиболее общей категории разрешается применять для более частной катег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Инкапсуляц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зует сокрытие отдельных деталей внутреннего устройства классов от внешних по отношению к нему объектов или пользов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80160" y="1484280"/>
            <a:ext cx="3363840" cy="3227400"/>
            <a:chOff x="5780160" y="1484280"/>
            <a:chExt cx="3363840" cy="3227400"/>
          </a:xfrm>
        </p:grpSpPr>
        <p:sp>
          <p:nvSpPr>
            <p:cNvPr id="181" name=""/>
            <p:cNvSpPr/>
            <p:nvPr/>
          </p:nvSpPr>
          <p:spPr>
            <a:xfrm>
              <a:off x="5887800" y="1841760"/>
              <a:ext cx="3151440" cy="163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07932" dir="189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80160" y="1484280"/>
              <a:ext cx="3363840" cy="3227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07932" dir="189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38200" y="2047680"/>
              <a:ext cx="3087000" cy="251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ерсональный компьют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8120" y="2713680"/>
              <a:ext cx="214344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чая станци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4600" y="3277080"/>
              <a:ext cx="213696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4600" y="3840840"/>
              <a:ext cx="214308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утбу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6320" y="4929120"/>
            <a:ext cx="878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лиморфиз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йство объектов принимать различные внешние формы в зависимости от обстоятельств. Применительно к ООП полиморфизм означает, что действия, выполняемые одноименными методами, могут отличаться в зависимости от того, к какому из классов относится тот или иной мет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6A8-F3B7-4B1D-A5C3-AA7DB0553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6736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цесс написания программного кода может быть отделен от процесса проектирования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84280"/>
            <a:ext cx="3438360" cy="70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проектирования структуры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48280" y="1488960"/>
            <a:ext cx="3095640" cy="70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написания программн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3456000" cy="257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классы (сколько и как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свойства и методы необходимые для придания классам требуемого пове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ть взаимосвязи между клас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2421000"/>
            <a:ext cx="3168720" cy="916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ование классов, свойств и мет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120" y="517680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157720"/>
            <a:ext cx="4716360" cy="733320"/>
          </a:xfrm>
          <a:prstGeom prst="rect">
            <a:avLst/>
          </a:prstGeom>
          <a:solidFill>
            <a:srgbClr val="75ffe5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ий анализ требований к будущей программе, а также с анализ конкретной предметной области, для которой разрабатываетс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5373720"/>
            <a:ext cx="936360" cy="288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5157720"/>
            <a:ext cx="1943280" cy="642600"/>
          </a:xfrm>
          <a:prstGeom prst="rect">
            <a:avLst/>
          </a:prstGeom>
          <a:solidFill>
            <a:srgbClr val="cc99ff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я ОО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CAB-6919-4BBE-9699-D761152003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ъектно-ориентированный анализ и проектирование (Object-Oriented Analysis/Design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1989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 разработки программных систем, в основу которых положена объектно-ориентированная методология представления предметной области в виде объектов, являющихся экземплярами соответствующ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CF2-053F-4F6C-AF35-041F55AA2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рафических нотации ООАП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773360"/>
            <a:ext cx="8208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«сущность-связь» 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ity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ationship Diagrams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D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функционального моделирования 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uctured Analysis and Design Technique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DT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потоков данных (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FD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унифицированного языка моделирования UML с использованием методологии R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72D-6007-4CCB-BBD2-8B2349722D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07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иаграммы «сущность-связь» (Е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D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47628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афическое представление моделей данных программной системы в виде набора стандартных обозначений для определения данных и отношений между н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43280" y="1484280"/>
            <a:ext cx="5943600" cy="2590920"/>
            <a:chOff x="2843280" y="1484280"/>
            <a:chExt cx="5943600" cy="2590920"/>
          </a:xfrm>
        </p:grpSpPr>
        <p:sp>
          <p:nvSpPr>
            <p:cNvPr id="211" name=""/>
            <p:cNvSpPr/>
            <p:nvPr/>
          </p:nvSpPr>
          <p:spPr>
            <a:xfrm>
              <a:off x="5075280" y="1484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Работает 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843280" y="1700280"/>
              <a:ext cx="5943600" cy="2374920"/>
              <a:chOff x="2843280" y="1700280"/>
              <a:chExt cx="5943600" cy="2374920"/>
            </a:xfrm>
          </p:grpSpPr>
          <p:sp>
            <p:nvSpPr>
              <p:cNvPr id="213" name=""/>
              <p:cNvSpPr/>
              <p:nvPr/>
            </p:nvSpPr>
            <p:spPr>
              <a:xfrm>
                <a:off x="2954520" y="1916280"/>
                <a:ext cx="1295280" cy="50328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отруд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18520" y="1987560"/>
                <a:ext cx="1368360" cy="43200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омпан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78520" y="2889360"/>
                <a:ext cx="151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Разрабатывае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78160" y="2924280"/>
                <a:ext cx="151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Работает на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49800" y="2203560"/>
                <a:ext cx="31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41800" y="1916280"/>
                <a:ext cx="1368720" cy="57636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66160" y="2419560"/>
                <a:ext cx="0" cy="15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528720" y="3932280"/>
                <a:ext cx="45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529080" y="2419560"/>
                <a:ext cx="0" cy="15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13440" y="3571920"/>
                <a:ext cx="1368360" cy="50328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роек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92960" y="2779920"/>
                <a:ext cx="1368360" cy="57600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43280" y="2781360"/>
                <a:ext cx="1368360" cy="57636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9800" y="17002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29080" y="24195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81440" y="3571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81800" y="3571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86520" y="18432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579600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557360"/>
            <a:ext cx="2952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ущность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ntit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извольное множество реальных или абстрактных объектов, каждый из которых обладает одинаковыми свойствами и характеристиками. данной сущ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вязь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lationship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ношение или ассоциация между отдельными сущност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4724280"/>
            <a:ext cx="8604000" cy="1067400"/>
          </a:xfrm>
          <a:prstGeom prst="rect">
            <a:avLst/>
          </a:prstGeom>
          <a:solidFill>
            <a:srgbClr val="cc99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ость диа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является при конкретизации концептуальной модели в более детальное представление моделируемой программной системы, которое, кроме статических связей, должно содержать информацию о поведении или функционировании ее отдельных компон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75640" y="638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4E9-5DF0-4BBB-AD44-6174A3A1E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35" name=""/>
          <p:cNvSpPr/>
          <p:nvPr/>
        </p:nvSpPr>
        <p:spPr>
          <a:xfrm>
            <a:off x="395280" y="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119700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втор Дуглас Росс. Функциональная модель SADT отображает функциональную структуру объекта, т.е. производимые им действия и связи между этими действия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421000"/>
            <a:ext cx="864216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0—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документирования процессов производства и отображения информации об использовании ресур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 —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моделирования информационных потоков внутри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DEF1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остроения реляционных структур (баз данных), относится к типу методологий «Сущность-взаимосвязь» (ER — Entity-Relationship)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F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моделирования динамического развития систем.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отация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 никогда не была полностью реализов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3 - для документирования технологических проце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4 — для построения объектно-ориентированны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5  — для описания системы при помощи определенного словаря терминов и правил, на основании которых формируются утверждения о состоянии системы в некоторый момент времени. На основе утверждений формируются выводы о дальнейшем развитии системы и производится её оптимиз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. До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F14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нотации семейст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Icam DEFini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482-C355-44D7-A8F5-21A2E9C44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43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13000"/>
            <a:ext cx="374472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обенность нотации IDEF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епенное введение все более детальных представлений модели системы по мере разработки отдельных диаграм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роение модел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ся с представления всей системы в виде простейшей диаграммы, состоящей из одного блока процесса и стрел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O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лужащих для изображения основных видов взаимодействия с объектами вне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ое представление является наиболее общим и подлежит дальнейшей декомпозиц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329000" y="1643040"/>
            <a:ext cx="4635720" cy="3570480"/>
            <a:chOff x="4329000" y="1643040"/>
            <a:chExt cx="4635720" cy="3570480"/>
          </a:xfrm>
        </p:grpSpPr>
        <p:sp>
          <p:nvSpPr>
            <p:cNvPr id="246" name=""/>
            <p:cNvSpPr/>
            <p:nvPr/>
          </p:nvSpPr>
          <p:spPr>
            <a:xfrm>
              <a:off x="5867280" y="3357720"/>
              <a:ext cx="1943280" cy="580680"/>
            </a:xfrm>
            <a:prstGeom prst="rect">
              <a:avLst/>
            </a:prstGeom>
            <a:solidFill>
              <a:srgbClr val="b7dbff"/>
            </a:solidFill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ить кредит в бан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184464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0760" y="1643040"/>
              <a:ext cx="1295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оформления креди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7640" y="3716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29000" y="2727360"/>
              <a:ext cx="165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явка клиента на предоставление креди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777000" y="3975120"/>
              <a:ext cx="6480" cy="12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48360" y="4653000"/>
              <a:ext cx="10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неджер ба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12000" y="364500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56720" y="32846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ред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84720" y="537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ер представления общей модели процесса оформления кредита в ба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54D-ADAF-46B5-B5B8-B47CE8A936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ные проблемы при разработке информационных сист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557360"/>
            <a:ext cx="2855880" cy="96948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адекватная оценка трудоемкости создания современных приложения на начальных этапах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8480" y="1542960"/>
            <a:ext cx="2663640" cy="969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езапланированные расходы и затягивание сроков готовности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8080" y="2894040"/>
            <a:ext cx="2851200" cy="96948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функциональных требований заказчика в процессе разработки прило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2708280"/>
            <a:ext cx="2724120" cy="16261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тдаление сроков завершения программы, вынужденное привлечение сверхштатных программистов и дополнительных ресурсов для организации их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8080" y="4149720"/>
            <a:ext cx="2869920" cy="184500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днозначное понимание архитектуры и функциональности информационной системы множеством специалистов различной квалификации, участвующих в ее разрабо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1844640"/>
            <a:ext cx="361800" cy="360360"/>
          </a:xfrm>
          <a:custGeom>
            <a:avLst/>
            <a:gdLst>
              <a:gd name="textAreaLeft" fmla="*/ 56520 w 361800"/>
              <a:gd name="textAreaRight" fmla="*/ 316800 w 361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213000"/>
            <a:ext cx="361800" cy="360360"/>
          </a:xfrm>
          <a:custGeom>
            <a:avLst/>
            <a:gdLst>
              <a:gd name="textAreaLeft" fmla="*/ 56520 w 361800"/>
              <a:gd name="textAreaRight" fmla="*/ 316800 w 361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73320" y="4811760"/>
            <a:ext cx="362160" cy="360360"/>
          </a:xfrm>
          <a:custGeom>
            <a:avLst/>
            <a:gdLst>
              <a:gd name="textAreaLeft" fmla="*/ 56520 w 362160"/>
              <a:gd name="textAreaRight" fmla="*/ 317160 w 3621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32240" y="4494240"/>
            <a:ext cx="2724120" cy="1407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зможность несоответствия разработанной информационной системы всем требованиям заказ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1413000"/>
            <a:ext cx="720720" cy="4752720"/>
          </a:xfrm>
          <a:custGeom>
            <a:avLst/>
            <a:gdLst>
              <a:gd name="textAreaLeft" fmla="*/ 0 w 720720"/>
              <a:gd name="textAreaRight" fmla="*/ 260280 w 720720"/>
              <a:gd name="textAreaTop" fmla="*/ 123840 h 4752720"/>
              <a:gd name="textAreaBottom" fmla="*/ 4628880 h 47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75480" y="2305080"/>
            <a:ext cx="2376360" cy="2837160"/>
          </a:xfrm>
          <a:prstGeom prst="rect">
            <a:avLst/>
          </a:prstGeom>
          <a:solidFill>
            <a:srgbClr val="75ffe5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 структуры и процесса функционирования программных систем до начала написания соответствующе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63C-7407-48D2-A50C-42D5707D19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58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0320" y="1413000"/>
            <a:ext cx="429732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цесс моделирования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окупность методов, правил и процедур, предназначенных для построения функциональной модели системы какой-либо предметн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ункциональная модель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ображает структуру процессов функционирования системы и ее отдельных подсистем, то есть, выполняемые ими действия и связи между этими действ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ходными строительными бло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й модели нот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 процесса являются деятельность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и стрелки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ow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1557360"/>
            <a:ext cx="4608360" cy="4323960"/>
          </a:xfrm>
          <a:prstGeom prst="rect">
            <a:avLst/>
          </a:prstGeom>
          <a:solidFill>
            <a:srgbClr val="ebf7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 программные продукты для постро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A ERwin Process Model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вший BPWin, затем AllFusion Process Modeler) - моделирование на базе методик IDEF0, IDEF3, DF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sign / IDE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моделирование на базе IDEF0, IDEF1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RIS Toolset - IDS Sheer A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основе нотация eEP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M Tool K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моделирование на базе IDEF0 и регламента Беларуси ТК РБ 4.2-МР-05-20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ACLE Design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BPM (Business Process Modeler) - см. [ 6 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S Visi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C6A-F386-4E3C-B207-8BCB0CE07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64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потоков данны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ata Flow Diagram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FD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989000"/>
            <a:ext cx="8207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одним из средств моделирования функциональных требований к проектируемой системе. Требования представляются в виде иерархии процессов, связанных потоками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ывают, как каждый процесс преобразует свои входные данные в выходные, и выявляют отношения между этими процес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ет моделируемую систему как сеть связанных раб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шно используются как дополнение к модели IDEF0 для описания документооборота и обработ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компоненты DF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процессы или работы, внешние сущности, потоки данных, накопители данных (хранилищ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341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-  Э.Йордон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AF5-412A-4C2E-925A-1B4DBE63FA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потоков данны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ata Flow Diagram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FD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989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rcRect l="2067" t="40904" r="51534" b="28346"/>
          <a:stretch/>
        </p:blipFill>
        <p:spPr>
          <a:xfrm>
            <a:off x="1403280" y="1413000"/>
            <a:ext cx="6193080" cy="2974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79280" y="4581360"/>
            <a:ext cx="89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елки DFD показывают, как объекты (включая данные) двигаются от одной работы к другой. Это представление потоков совместно с хранилищами данных и внешними сущностями делает модели DFD более похожими на физические характеристики системы — движение объектов, хранение объектов, поставка и распространение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B37-4691-48CF-AF30-F99E79836A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77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9680" y="85680"/>
            <a:ext cx="87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нифицированный язык  моделировани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484280"/>
            <a:ext cx="8497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рименяется при использлован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RUP (Rational Unified Process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проекта, в рамках которой вводятся этапы работы, ставятся задачи аналитикам, проектировщикам, программистам, тестировщикам, системным интеграт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141720"/>
            <a:ext cx="698328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тодология RU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исывает построение системы диаграмм – единичных описаний фрагментов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ждой диаграммы есть своя цель и своя аудитория. Моделирование проводится как "поуровневый спуск" от концептуальной модели к логической, а затем к физической модели программ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319-6503-4C9C-BFC7-E5C7C53F0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83" name=""/>
          <p:cNvSpPr/>
          <p:nvPr/>
        </p:nvSpPr>
        <p:spPr>
          <a:xfrm>
            <a:off x="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иды диаграмм в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UML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08200" y="1916280"/>
            <a:ext cx="205128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классо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61240" y="1916280"/>
            <a:ext cx="213984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bjec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560" y="1916280"/>
            <a:ext cx="245268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рецедентов (use case diagram)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5560" y="2946240"/>
            <a:ext cx="245268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3933720"/>
            <a:ext cx="237492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состояни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cha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61240" y="3932280"/>
            <a:ext cx="2139840" cy="7160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8400" y="4871880"/>
            <a:ext cx="3432240" cy="7178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оследовательност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2997360"/>
            <a:ext cx="2496960" cy="67140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компон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8840" y="4871880"/>
            <a:ext cx="3119400" cy="7178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разверты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velopm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08240" y="3260520"/>
            <a:ext cx="285300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107880" y="3304800"/>
            <a:ext cx="28530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08240" y="2319480"/>
            <a:ext cx="2495520" cy="25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41800" y="2368440"/>
            <a:ext cx="271944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3170160"/>
            <a:ext cx="2184120" cy="10303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грированная модель слож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9560" y="268272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43D-37A2-4E50-B6A0-B22CBD6CFD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489560" y="268272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303" name=""/>
          <p:cNvSpPr/>
          <p:nvPr/>
        </p:nvSpPr>
        <p:spPr>
          <a:xfrm>
            <a:off x="395280" y="148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C5B-8CDF-434E-8602-8FD175655E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ww.animationfactory.co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36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281916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590920" y="4286160"/>
            <a:ext cx="281916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одель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о упрощенное представление реальности, абстракция физической системы, рассматриваемая с определенной точки зрения и представленная на некотором языке или в графической фор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включает элементы, существенно влияющие на результат, и не включает те, которые малозначимы на данном уровне абстракции;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может быть </a:t>
            </a:r>
            <a:r>
              <a:rPr b="1" i="1" lang="ru-RU" sz="2400" spc="-1" strike="noStrike">
                <a:solidFill>
                  <a:srgbClr val="003399"/>
                </a:solidFill>
                <a:latin typeface="Franklin Gothic Demi"/>
              </a:rPr>
              <a:t>структурной</a:t>
            </a: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, подчеркивающей организацию системы, или </a:t>
            </a:r>
            <a:r>
              <a:rPr b="1" i="1" lang="ru-RU" sz="2400" spc="-1" strike="noStrike">
                <a:solidFill>
                  <a:srgbClr val="003399"/>
                </a:solidFill>
                <a:latin typeface="Franklin Gothic Demi"/>
              </a:rPr>
              <a:t>поведенческой</a:t>
            </a: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, то есть отражающей ее динамику;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должна быть понятна заказчику и всем специалистам проектной группы, включая бизнес-аналитиков и программистов.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E5B-05FE-4F4E-89E7-B307D3C5DD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75680" cy="689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01" name=""/>
          <p:cNvSpPr/>
          <p:nvPr/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ирование позволяет решить четыре различных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91232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360" rIns="147600" tIns="46800" bIns="46800" anchor="ctr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визуализировать систему в ее текущем или желательном состоя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определить структуру или поведение сис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получить шаблон, позволяющий затем сконструировать систем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документировать принимаемые решения, используя получен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      Выбор модели оказывает определяющее влияние на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дход к решению проблемы и на то, как будет выглядеть это реш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          </a:t>
            </a:r>
            <a:r>
              <a:rPr b="0" lang="ru-RU" sz="2000" spc="-1" strike="noStrike">
                <a:solidFill>
                  <a:srgbClr val="000099"/>
                </a:solidFill>
                <a:latin typeface="Franklin Gothic Demi"/>
              </a:rPr>
              <a:t>Правильно выбранная модель высветит самые коварные проблемы разработки и позволит проникнуть в самую суть задачи. Неправильная модель заведет вас в тупик, поскольку внимание будет заостряться на несущественных вопросах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1484280"/>
            <a:ext cx="8128080" cy="2962800"/>
            <a:chOff x="468360" y="1484280"/>
            <a:chExt cx="8128080" cy="2962800"/>
          </a:xfrm>
        </p:grpSpPr>
        <p:sp>
          <p:nvSpPr>
            <p:cNvPr id="108" name=""/>
            <p:cNvSpPr/>
            <p:nvPr/>
          </p:nvSpPr>
          <p:spPr>
            <a:xfrm>
              <a:off x="3075120" y="3484440"/>
              <a:ext cx="2448000" cy="642600"/>
            </a:xfrm>
            <a:prstGeom prst="rect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29080" y="182880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360" y="1484280"/>
              <a:ext cx="214488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чик баз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9800" y="2244600"/>
              <a:ext cx="216396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уктурный аналит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760" y="2981520"/>
              <a:ext cx="2146320" cy="14655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чик, пользующийся объектно-ориентированным мето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43120" y="254952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43120" y="312588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3435480" y="1612800"/>
              <a:ext cx="172872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740560" y="1541520"/>
              <a:ext cx="282420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и «сущность-связь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000" y="2301840"/>
              <a:ext cx="282096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ь алгоритмов и передачи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4600" y="3038400"/>
              <a:ext cx="2841840" cy="9169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жество классов и их взаимодействие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EAF-DAAB-4744-A808-4A9CFE387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      Каждая модель может быть воплощена с разной степенью абстр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Лучшей моделью будет та, которая позволяет выбрать уровень детализации в зависимости от того, кто и с какой целью на нее смотрит. 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484280"/>
            <a:ext cx="7270560" cy="3084120"/>
            <a:chOff x="684360" y="1484280"/>
            <a:chExt cx="7270560" cy="30841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403280" y="2565360"/>
              <a:ext cx="2016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556000" y="1557360"/>
              <a:ext cx="1296720" cy="936720"/>
            </a:xfrm>
            <a:prstGeom prst="cloudCallout">
              <a:avLst>
                <a:gd name="adj1" fmla="val -77416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т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4360" y="3860640"/>
              <a:ext cx="31669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Аналитик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Конечный пользо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rcRect l="0" t="0" r="0" b="15822"/>
            <a:stretch/>
          </p:blipFill>
          <p:spPr>
            <a:xfrm>
              <a:off x="5291280" y="2565360"/>
              <a:ext cx="20160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H="1">
              <a:off x="4787280" y="1484280"/>
              <a:ext cx="1439640" cy="936720"/>
            </a:xfrm>
            <a:prstGeom prst="cloudCallout">
              <a:avLst>
                <a:gd name="adj1" fmla="val -62569"/>
                <a:gd name="adj2" fmla="val 852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к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8000" y="4005360"/>
              <a:ext cx="31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Разработч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F95-1B21-485B-9282-492ABB01D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   Лучшие модели - те, что ближе к реа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56000" y="1557000"/>
            <a:ext cx="45338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Модели должны во всем соотноситься с реальностью, а там, где связь ослабевает, должно быть понятно, в чем заключается различие и что из этого следует.  Поскольку модель всегда упрощает реальность, задача в том, чтобы это упрощение не повлекло за собой какие-либо существенные потери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ри объектно-ориентированном подходе можно объединить все почти независимые представления системы в единое семантическое целое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pic>
        <p:nvPicPr>
          <p:cNvPr id="132" name="" descr="Картинка 3 из 4812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44640"/>
            <a:ext cx="3884400" cy="31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D37-137B-4399-83B4-87615FC0D4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4616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     Наилучший подход при разработке любой нетривиальной системы - использовать совокупность нескольких моделей, почти независимых друг от дру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ка 10 из 42094">
            <a:hlinkClick r:id="rId2"/>
          </p:cNvPr>
          <p:cNvPicPr/>
          <p:nvPr/>
        </p:nvPicPr>
        <p:blipFill>
          <a:blip r:embed="rId3"/>
          <a:srcRect l="1764" t="3886" r="3149" b="9978"/>
          <a:stretch/>
        </p:blipFill>
        <p:spPr>
          <a:xfrm>
            <a:off x="468360" y="3860640"/>
            <a:ext cx="3227400" cy="207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19 из 42094">
            <a:hlinkClick r:id="rId4"/>
          </p:cNvPr>
          <p:cNvPicPr/>
          <p:nvPr/>
        </p:nvPicPr>
        <p:blipFill>
          <a:blip r:embed="rId5"/>
          <a:srcRect l="3564" t="4887" r="2914" b="7490"/>
          <a:stretch/>
        </p:blipFill>
        <p:spPr>
          <a:xfrm>
            <a:off x="5083200" y="1287360"/>
            <a:ext cx="3873600" cy="2560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1341360"/>
            <a:ext cx="475128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при конструировании зд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ажные пл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в разре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электропрово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центрального отопления и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149720"/>
            <a:ext cx="43927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могут создаваться и изучаться по отдельности, но вместе с тем остаются взаимосвязан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можно изучать только схемы электропроводки проектируемого здания, но при этом наложить их на поэтажный план пола и даже рассмотреть совместно с прокладкой труб на схеме водоснаб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4149720"/>
            <a:ext cx="4392720" cy="934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9C9-D8B2-48A6-A545-BB6AA051B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41" name=""/>
          <p:cNvSpPr/>
          <p:nvPr/>
        </p:nvSpPr>
        <p:spPr>
          <a:xfrm>
            <a:off x="0" y="189000"/>
            <a:ext cx="8893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     Наилучший подход при разработке любой нетривиальной системы - использовать совокупность нескольких моделей, почти независимых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281320"/>
            <a:ext cx="2376720" cy="580680"/>
          </a:xfrm>
          <a:prstGeom prst="rect">
            <a:avLst/>
          </a:prstGeom>
          <a:solidFill>
            <a:srgbClr val="aaf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с точки зрения проект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480" y="1341360"/>
            <a:ext cx="8859600" cy="4468320"/>
            <a:chOff x="114480" y="1341360"/>
            <a:chExt cx="8859600" cy="4468320"/>
          </a:xfrm>
        </p:grpSpPr>
        <p:sp>
          <p:nvSpPr>
            <p:cNvPr id="145" name=""/>
            <p:cNvSpPr/>
            <p:nvPr/>
          </p:nvSpPr>
          <p:spPr>
            <a:xfrm>
              <a:off x="114480" y="2852640"/>
              <a:ext cx="2663640" cy="82404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прецедентов (вариантов использован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9360" y="2836800"/>
              <a:ext cx="208908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процесс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43760" y="5229000"/>
              <a:ext cx="223344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 зрения реализ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6680" y="5229000"/>
              <a:ext cx="230364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развертыв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59040" y="1844640"/>
              <a:ext cx="1871640" cy="720720"/>
            </a:xfrm>
            <a:prstGeom prst="wedgeRectCallout">
              <a:avLst>
                <a:gd name="adj1" fmla="val -53138"/>
                <a:gd name="adj2" fmla="val 900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выявить требования к систе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95760" y="1341360"/>
              <a:ext cx="2808360" cy="719280"/>
            </a:xfrm>
            <a:prstGeom prst="wedgeRectCallout">
              <a:avLst>
                <a:gd name="adj1" fmla="val -47115"/>
                <a:gd name="adj2" fmla="val 939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построить словарь предметной области и области реш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0120" y="1485720"/>
              <a:ext cx="2232000" cy="914400"/>
            </a:xfrm>
            <a:prstGeom prst="wedgeRectCallout">
              <a:avLst>
                <a:gd name="adj1" fmla="val -50712"/>
                <a:gd name="adj2" fmla="val 895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смоделировать распределение процессов и потоков в систе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5760" y="4233600"/>
              <a:ext cx="2038320" cy="720720"/>
            </a:xfrm>
            <a:prstGeom prst="wedgeRectCallout">
              <a:avLst>
                <a:gd name="adj1" fmla="val -60824"/>
                <a:gd name="adj2" fmla="val 83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рассмотреть физическую реализацию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8680" y="4149720"/>
              <a:ext cx="1871640" cy="865080"/>
            </a:xfrm>
            <a:prstGeom prst="wedgeRectCallout">
              <a:avLst>
                <a:gd name="adj1" fmla="val -53138"/>
                <a:gd name="adj2" fmla="val 7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сосредоточиться на системном проектирован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000" y="3311280"/>
              <a:ext cx="3371760" cy="220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471760" y="3428640"/>
              <a:ext cx="3888000" cy="2089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88120" y="299700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0680" y="3357360"/>
              <a:ext cx="3457440" cy="2087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рхитектур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ъектно-ориентирован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граммной 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3:22:01Z</dcterms:created>
  <dc:creator>Пользователь</dc:creator>
  <dc:description/>
  <dc:language>en-US</dc:language>
  <cp:lastModifiedBy>Пользователь</cp:lastModifiedBy>
  <dcterms:modified xsi:type="dcterms:W3CDTF">2009-12-08T10:47:08Z</dcterms:modified>
  <cp:revision>61</cp:revision>
  <dc:subject/>
  <dc:title>Введение в моделирование</dc:title>
</cp:coreProperties>
</file>